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camera.wav" ContentType="audio/x-wav"/>
  <Override PartName="/ppt/media/image7.jpeg" ContentType="image/jpeg"/>
  <Override PartName="/ppt/media/image1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8745F-2E65-475D-B888-19D76CC23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9DE8F-796E-4960-BF9E-A252CE7F9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62CE0-C9BE-4D2F-BED5-E62BA0160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74A1D-B76E-414B-83CA-49323521C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02C2A1-9395-450C-A205-B55050D5D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B9FE9C-BAB3-48F1-B436-50B40C686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03DC1C-DC19-4271-9348-E7375B53C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082870-9956-4A0B-AB03-FA0AB14D2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A638D9-31E2-4EC5-AF30-5E95051AE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4281A0-7B9C-4E8B-A3A4-34991B759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2F1E4E-D216-4456-A32B-C4C20DE39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B48EC-6592-44D5-9B3C-659C241E6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83064A-3929-445F-AF75-CAC60136C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8616D8-28CF-4F92-A2A4-49923CEC4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E29983-89CB-43DE-B7B1-B7A30C283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BBFE04-014C-4EEB-99AD-3B6C592A6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D51C21-B360-44CD-A76E-46FF767DD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EC2EF-152B-4EF5-8BD3-026B6AD3E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22F89-B6C9-4E90-93CB-25FDAEC3B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04521-49F2-4825-9EFE-13CADA866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32E33-A6C8-4F65-8AB6-19BBEE251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D38AF-400D-4D28-B184-8101AB59A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BD3DD-8646-4A0C-9A66-198D88485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F5F68-504E-4D5E-8DB7-087C6AB4A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E4ED5-A65A-4BF8-8049-6CA549BE17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86FEA-9DE2-4212-AB6A-082A3F6E0A6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nz.wrs.yahoo.com/_ylt=A0S0zvm2E35MTQUA4cj1Zgx.;_ylu=X3oDMTBpc2VvdmQ2BHBvcwM3BHNlYwNzcgR2dGlkAw--/SIG=1jul3jhjt/EXP=1283417398/**http%3A//nz.images.search.yahoo.com/images/view%3Fback=http%253A%252F%252Fnz.images.search.yahoo.com%252Fsearch%252Fimages%253Fp%253Dgoat%252Bisland%252Bnz%2526ei%253Dutf-8%2526fr%253Dyfp-t-501%26w=640%26h=480%26imgurl=www.goatislanddive.co.nz%252FPicsHotel%252Fgoatisland%252FImages%252Fcorp-group-snork1.jpg%26rurl=http%253A%252F%252Fwww.goatislanddive.co.nz%252FGoat_Island_Dive%252FSnorkel___Kayak_Day_IDL%253D1_IDT%253D2424_ID%253D13858_.html%26size=18k%26name=corp%2Bgroup%2Bsnork...%26p=goat%2Bisland%2Bnz%26oid=d760445d8e0ec576%26fr2=%26no=7%26tt=762%26sigr=1324dgutr%26sigi=12a40v66o%26sigb=12m6d8og7%26type=JPG" TargetMode="External"/><Relationship Id="rId2" Type="http://schemas.openxmlformats.org/officeDocument/2006/relationships/image" Target="../media/image2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es.google.co.nz/imgres?imgurl=http://www.wallingfordvt.com/BS01029_.gif&amp;imgrefurl=http://www.wallingfordvt.com/planning_%26_zoning.htm&amp;usg=__sZid-fazXb0arLNAh1YL-u69KIs=&amp;h=364&amp;w=331&amp;sz=9&amp;hl=en&amp;start=1&amp;tbnid=XvHK5DcvHgq8MM:&amp;tbnh=121&amp;tbnw=110&amp;prev=/images%3Fq%3Dagenda%26gbv%3D2%26hl%3Den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google.co.nz/imgres?imgurl=http://www.batheastonscouts.org.uk/images/scout_images/camp.gif&amp;imgrefurl=http://batheastonscouts.org.uk/scouts/camps.shtml&amp;usg=__NzFRhQ91knk1u5pkYHGNY3koqGY=&amp;h=196&amp;w=320&amp;sz=26&amp;hl=en&amp;start=12&amp;tbnid=K3rC-Q9hmLx_XM:&amp;tbnh=72&amp;tbnw=118&amp;prev=/images%3Fq%3Dcartoon%2Bcamp%26gbv%3D2%26hl%3Den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images.google.co.nz/imgres?imgurl=http://static.bigstockphoto.com/thumbs/3/3/5/large/5330705.jpg&amp;imgrefurl=http://www.bigstockphoto.com/photo/view/5330705&amp;usg=__bdLLS9vfLKVo3X9E3-DZGJylrgc=&amp;h=370&amp;w=210&amp;sz=17&amp;hl=en&amp;start=17&amp;tbnid=-6LsHmD8VnQgNM:&amp;tbnh=122&amp;tbnw=69&amp;prev=/images%3Fq%3Dcartoon%2Bcamp%26gbv%3D2%26hl%3Den" TargetMode="External"/><Relationship Id="rId4" Type="http://schemas.openxmlformats.org/officeDocument/2006/relationships/image" Target="../media/image5.jpeg"/><Relationship Id="rId5" Type="http://schemas.openxmlformats.org/officeDocument/2006/relationships/hyperlink" Target="http://images.google.co.nz/imgres?imgurl=http://www.bradfitzpatrick.com/stock_illustration/images-new/household/cartoon-boots-clipart.gif&amp;imgrefurl=http://www.bradfitzpatrick.com/stock_illustration/cartoon-household-clipart/cartoon-boots-clipart.htm&amp;usg=__yGNSIsX9P1sK0q6bDMp9566qFmI=&amp;h=180&amp;w=240&amp;sz=8&amp;hl=en&amp;start=1&amp;tbnid=_hky8FChkXoMMM:&amp;tbnh=83&amp;tbnw=110&amp;prev=/images%3Fq%3Dcartoon%2Bboots%26gbv%3D2%26hl%3Den" TargetMode="External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google.co.nz/imgres?imgurl=http://www3.babson.edu/Centers/Glavin/GPS/ISS/images/cartoon_students.gif&amp;imgrefurl=http://www3.babson.edu/Centers/Glavin/GPS/ISS/Immigration-and-Visas.cfm&amp;usg=__1yhADgTawzH5fgCusa4VUcUCMXs=&amp;h=480&amp;w=775&amp;sz=19&amp;hl=en&amp;start=17&amp;tbnid=GqxTx949mkkMHM:&amp;tbnh=88&amp;tbnw=142&amp;prev=/images%3Fq%3Dcartoon%2Bstudents%26gbv%3D2%26hl%3Den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google.co.nz/imgres?imgurl=https://www.ocps.net/lc/southwest/eec/AC/Kindergarten/PublishingImages/school%2520bus.gif&amp;imgrefurl=http://www.azcentral.com/members/Blog/PoliticalInsider/t1243839600&amp;usg=__1wTZ4qhLoVGXMlWrEx95el_x6Ww=&amp;h=900&amp;w=859&amp;sz=73&amp;hl=en&amp;start=13&amp;tbnid=sW8Vt1xA6J8RBM:&amp;tbnh=146&amp;tbnw=139&amp;prev=/images%3Fq%3Dbus%26gbv%3D2%26hl%3Den" TargetMode="External"/><Relationship Id="rId2" Type="http://schemas.openxmlformats.org/officeDocument/2006/relationships/image" Target="../media/image8.jpeg"/><Relationship Id="rId3" Type="http://schemas.openxmlformats.org/officeDocument/2006/relationships/hyperlink" Target="http://images.google.co.nz/imgres?imgurl=http://www.kangaroomstorage.com/shop/standard/travel/55/snack-sac-lunch-box.jpg&amp;imgrefurl=http://blackandmarriedwithkids.com/2008/03/19/child-uses-lunch-box-as-toilet/&amp;usg=__9V4SLsKhh2CcXhEDwJWDbFg2m3c=&amp;h=300&amp;w=300&amp;sz=10&amp;hl=en&amp;start=11&amp;tbnid=YIXPptYBHeBlwM:&amp;tbnh=116&amp;tbnw=116&amp;prev=/images%3Fq%3Dlunch%2Bbox%26gbv%3D2%26hl%3Den" TargetMode="External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nz.wrs.yahoo.com/_ylt=A0S0zvl1E35MaAUAPav1Zgx.;_ylu=X3oDMTBpZTByOGFiBHBvcwMyBHNlYwNzcgR2dGlkAw--/SIG=1i1ihtejk/EXP=1283417333/**http%3A//nz.images.search.yahoo.com/images/view%3Fback=http%253A%252F%252Fnz.images.search.yahoo.com%252Fsearch%252Fimages%253Fp%253Dmoney%252Bclipart%2526ei%253DUTF-8%2526fr%253Dyfp-t-501%26w=462%26h=594%26imgurl=www.clker.com%252Fcliparts%252Fa%252Fc%252Ff%252Fa%252F1195437419219858921johnny_automatic_bag_of_money.svg.hi.png%26rurl=http%253A%252F%252Fwww.clker.com%252Fclipart-11442.html%26size=64k%26name=1195437419219858...%26p=money%2Bclipart%26oid=ca24ab72ae1d96c8%26fr2=%26no=2%26tt=13396%26sigr=117dmv53p%26sigi=12q2dqba9%26sigb=12l2fg5d4%26type=png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4360" y="981000"/>
            <a:ext cx="7773840" cy="2448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 Narrow"/>
              </a:rPr>
              <a:t>Senior Camp</a:t>
            </a:r>
            <a:br>
              <a:rPr sz="6000"/>
            </a:br>
            <a:r>
              <a:rPr b="0" lang="en-US" sz="6000" spc="-1" strike="noStrike">
                <a:solidFill>
                  <a:srgbClr val="ffffff"/>
                </a:solidFill>
                <a:latin typeface="Arial Narrow"/>
              </a:rPr>
              <a:t>Goat Island Camp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7-10 December 201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5" name="Picture 6" descr="Go to full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679920" y="4929120"/>
            <a:ext cx="1963800" cy="146232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wipe dir="d"/>
    <p:sndAc>
      <p:stSnd>
        <p:snd r:embed="rId3" name="camera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" dur="250" autoRev="1" fill="hold"/>
                                        <p:tgtEl>
                                          <p:spTgt spid="8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radley Hand ITC"/>
              </a:rPr>
              <a:t>Thank you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radley Hand ITC"/>
              </a:rPr>
              <a:t>We appreciate your time to come to our meeting and thank you for your suppo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radley Hand ITC"/>
              </a:rPr>
              <a:t>We could not do this camp withou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radley Hand ITC"/>
              </a:rPr>
              <a:t>Our wonderful parent support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Picture 5" descr="smiling-face"/>
          <p:cNvPicPr/>
          <p:nvPr/>
        </p:nvPicPr>
        <p:blipFill>
          <a:blip r:embed="rId1"/>
          <a:stretch/>
        </p:blipFill>
        <p:spPr>
          <a:xfrm>
            <a:off x="4211640" y="5084640"/>
            <a:ext cx="1238400" cy="1238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2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20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Question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6" name="Picture 5" descr="question_mark"/>
          <p:cNvPicPr/>
          <p:nvPr/>
        </p:nvPicPr>
        <p:blipFill>
          <a:blip r:embed="rId1"/>
          <a:stretch/>
        </p:blipFill>
        <p:spPr>
          <a:xfrm>
            <a:off x="3341520" y="2133720"/>
            <a:ext cx="2529000" cy="2663640"/>
          </a:xfrm>
          <a:prstGeom prst="rect">
            <a:avLst/>
          </a:prstGeom>
          <a:ln w="0">
            <a:noFill/>
          </a:ln>
        </p:spPr>
      </p:pic>
    </p:spTree>
  </p:cSld>
  <p:transition advTm="6000">
    <p:push dir="r"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GEND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o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group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oat Islan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ranspo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eliminary timetab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ssible cos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undraising ide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Questions…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8" name="Picture 19" descr="BS01029_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568920" y="1773360"/>
            <a:ext cx="1571760" cy="1728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00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00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500"/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549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Our goal for camp is for the children to have a memorable educational experience outside the classroom, with a range of challenges, skills and activities, with a particular focus on water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Picture 2" descr="http://t2.gstatic.com/images?q=tbn:K3rC-Q9hmLx_XM:http://www.batheastonscouts.org.uk/images/scout_images/camp.gi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786120" y="5000760"/>
            <a:ext cx="1643040" cy="10033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4" descr="http://t0.gstatic.com/images?q=tbn:-6LsHmD8VnQgNM:http://static.bigstockphoto.com/thumbs/3/3/5/large/5330705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00040" y="5286240"/>
            <a:ext cx="657360" cy="11620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6" descr="http://t2.gstatic.com/images?q=tbn:_hky8FChkXoMMM:http://www.bradfitzpatrick.com/stock_illustration/images-new/household/cartoon-boots-clipart.gif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500960" y="5715000"/>
            <a:ext cx="1047600" cy="79056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he Group”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28760" y="1428480"/>
            <a:ext cx="8229600" cy="446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3 classrooms of studen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Year 5 to 8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80 students in tot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ixture of age and abil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ooking for an excellent memorable experience with lots of challenges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cus on “Ocean Around Us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Picture 5" descr="cartoon_student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714840" y="5124600"/>
            <a:ext cx="2225520" cy="1379520"/>
          </a:xfrm>
          <a:prstGeom prst="rect">
            <a:avLst/>
          </a:prstGeom>
          <a:ln w="0">
            <a:noFill/>
          </a:ln>
        </p:spPr>
      </p:pic>
    </p:spTree>
  </p:cSld>
  <p:transition advTm="27000">
    <p:push dir="r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Goat Island Camp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Text Box 11"/>
          <p:cNvSpPr/>
          <p:nvPr/>
        </p:nvSpPr>
        <p:spPr>
          <a:xfrm>
            <a:off x="539640" y="3357720"/>
            <a:ext cx="251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ent are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Rectangle 12"/>
          <p:cNvSpPr/>
          <p:nvPr/>
        </p:nvSpPr>
        <p:spPr>
          <a:xfrm>
            <a:off x="6318000" y="3357720"/>
            <a:ext cx="186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ooking block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Rectangle 13"/>
          <p:cNvSpPr/>
          <p:nvPr/>
        </p:nvSpPr>
        <p:spPr>
          <a:xfrm>
            <a:off x="3774600" y="4437000"/>
            <a:ext cx="182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ain buildin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Rectangle 15"/>
          <p:cNvSpPr/>
          <p:nvPr/>
        </p:nvSpPr>
        <p:spPr>
          <a:xfrm>
            <a:off x="3817800" y="5786280"/>
            <a:ext cx="255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(Insert photos here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ranspor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us which seats 53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 teachers, 80 studen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? paren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rs, ? drivers (at least) to take ? students (preferably no lap belt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reak at Kawakawa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3" name="Picture 5" descr="school%2520bu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588000" y="333360"/>
            <a:ext cx="1324080" cy="13906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1" descr="snack-sac-lunch-box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372360" y="479736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ff"/>
                </a:solidFill>
                <a:latin typeface="Tahoma"/>
              </a:rPr>
              <a:t>Preliminary Timetabl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571760"/>
            <a:ext cx="8229600" cy="44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Tahoma"/>
              </a:rPr>
              <a:t>Arrive at camp – set up ten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Tahoma"/>
              </a:rPr>
              <a:t>Introduction to snorkelling from Nikki at Whitebait Connect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Tahoma"/>
              </a:rPr>
              <a:t>Snorkell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Tahoma"/>
              </a:rPr>
              <a:t>Kayak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Tahoma"/>
              </a:rPr>
              <a:t>Tramp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Tahoma"/>
              </a:rPr>
              <a:t>Glass  Bottom Bo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ff"/>
                </a:solidFill>
                <a:latin typeface="Tahoma"/>
              </a:rPr>
              <a:t>Possible cost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Tahoma"/>
              </a:rPr>
              <a:t>$100 per stud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Tahoma"/>
              </a:rPr>
              <a:t>Snorkell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Tahoma"/>
              </a:rPr>
              <a:t>Bush wal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Tahoma"/>
              </a:rPr>
              <a:t>Glass bottom bo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ff"/>
                </a:solidFill>
                <a:latin typeface="Tahoma"/>
              </a:rPr>
              <a:t>Fundraising Idea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Tahoma"/>
              </a:rPr>
              <a:t>Fun run – Friday 17</a:t>
            </a:r>
            <a:r>
              <a:rPr b="0" lang="en-NZ" sz="32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0" lang="en-NZ" sz="3200" spc="-1" strike="noStrike">
                <a:solidFill>
                  <a:srgbClr val="ffffff"/>
                </a:solidFill>
                <a:latin typeface="Tahoma"/>
              </a:rPr>
              <a:t> September – students get sponsorship per kilomet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Tahoma"/>
              </a:rPr>
              <a:t>Variety Show – Friday 29</a:t>
            </a:r>
            <a:r>
              <a:rPr b="0" lang="en-NZ" sz="32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0" lang="en-NZ" sz="3200" spc="-1" strike="noStrike">
                <a:solidFill>
                  <a:srgbClr val="ffffff"/>
                </a:solidFill>
                <a:latin typeface="Tahoma"/>
              </a:rPr>
              <a:t> October – sell hangi’s and cakes/drink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Tahoma"/>
              </a:rPr>
              <a:t>Triathlon – Saturday 20</a:t>
            </a:r>
            <a:r>
              <a:rPr b="0" lang="en-NZ" sz="32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0" lang="en-NZ" sz="3200" spc="-1" strike="noStrike">
                <a:solidFill>
                  <a:srgbClr val="ffffff"/>
                </a:solidFill>
                <a:latin typeface="Tahoma"/>
              </a:rPr>
              <a:t> November – sell drinks/nibbles/cak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Tahoma"/>
              </a:rPr>
              <a:t>Possible truck washing in the weekends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Picture 2" descr="Go to full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58000" y="428760"/>
            <a:ext cx="1066680" cy="138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3T21:38:00Z</dcterms:created>
  <dc:creator>Kathryn</dc:creator>
  <dc:description/>
  <dc:language>en-US</dc:language>
  <cp:lastModifiedBy>Admin</cp:lastModifiedBy>
  <dcterms:modified xsi:type="dcterms:W3CDTF">2010-09-01T08:58:16Z</dcterms:modified>
  <cp:revision>17</cp:revision>
  <dc:subject/>
  <dc:title>Senior Camp Marsden Bay Christian Camp</dc:title>
</cp:coreProperties>
</file>